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4F8-4A43-4D79-8B78-11396453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7A7-0DD9-4F88-9F3B-1A75548B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9CB-727D-48B4-8975-634429B7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D8B-9031-48EB-AEFA-4979CCA7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ED6-3350-4AC9-BDC3-2B5F6EC0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6F7-2BB9-425A-8581-4B3609FC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AFE-3CAE-4382-AD37-DDB81423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D40-89E7-4089-8906-520A8ACF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747-6361-41C0-B1EE-F5CCF150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34A-F62A-487B-B62D-C9681A75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145-877A-4554-8BD2-CD661346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81D-96C7-4C13-A626-720D851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4017-A0FF-4FC5-91B4-0545B9A90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 Chváľte svojho Stvor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te svojho Stvorite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y diela jeho rú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o šíre i zem cel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ní chvál nech čujú zvu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náš Boh trojjedi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ove svojom nesklam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ľuboch stály, spoľahli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k nám sa prizná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Pána! On nás chrá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ustále o nás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svojich štedrých dla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m s láskou ro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ôže byť človek nem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vďačne spievať sm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sa sklonil k ze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v ňom Boh s nami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jme chválu Pánu Bo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laňajme sa pokor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akujme za milosť mnoh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ia svoje otvor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šetkých už končín sve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avná nech pieseň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ý Pán, tá Láska svä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ej chvály hoden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53:19Z</dcterms:modified>
  <cp:revision>18</cp:revision>
  <dc:subject/>
  <dc:title>Je veľký náš Pán, on slávy je Kráľ Nech do všetkých strán  spev vrúcnych znie chvál.</dc:title>
</cp:coreProperties>
</file>